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C958-B56B-4CF1-8C65-6C143FCD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1A58-4EA1-4E1B-9E3E-1BA0D0C0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9553-3017-409C-8B69-D171F138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47CA-A6D5-4064-AD3E-1CA74BE8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0571D-B8FC-41AE-8DFC-5B7B75C0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360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9880" y="102060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76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2360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9880" y="3671640"/>
            <a:ext cx="276732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29F43-6F4C-4444-A162-F10E4191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BF730-A143-4078-BC7E-E864CFD1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3FC7-39AA-4368-99A3-F4990AF9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17320" y="2728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5AE1-1B57-40C1-970D-4BC37CA5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638E3-EA43-4A8D-BA97-0EDBBA84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21920" y="367164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751F-9BF7-430E-B6DC-B840B6D7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768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1920" y="1020600"/>
            <a:ext cx="419400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7680" y="3671640"/>
            <a:ext cx="8594640" cy="24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04EC-93B5-4C32-81B7-3519347D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0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85720" y="6616800"/>
            <a:ext cx="1304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o.  </a:t>
            </a:r>
            <a:fld id="{39F64A9D-8560-4556-882E-8BD1753E695D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41320" y="659916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65200" y="743040"/>
            <a:ext cx="8273880" cy="0"/>
          </a:xfrm>
          <a:prstGeom prst="line">
            <a:avLst/>
          </a:prstGeom>
          <a:ln w="12600">
            <a:solidFill>
              <a:srgbClr val="0063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069"/>
                </a:solidFill>
                <a:latin typeface="ITC Officina Sans Book"/>
              </a:rPr>
              <a:t>Click to edit the title text format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17680" y="1020600"/>
            <a:ext cx="8594640" cy="50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3c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lick to edit the outline text format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1" marL="743040" indent="-285840">
              <a:spcBef>
                <a:spcPts val="499"/>
              </a:spcBef>
              <a:buClr>
                <a:srgbClr val="0063ce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con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2" marL="1143000" indent="-228600">
              <a:spcBef>
                <a:spcPts val="499"/>
              </a:spcBef>
              <a:buClr>
                <a:srgbClr val="0063ce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hird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3" marL="16002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our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4" marL="2057400" indent="-228600">
              <a:spcBef>
                <a:spcPts val="499"/>
              </a:spcBef>
              <a:buClr>
                <a:srgbClr val="0005f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Fif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5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ix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  <a:p>
            <a:pPr lvl="6" marL="2057400" indent="-228600">
              <a:spcBef>
                <a:spcPts val="499"/>
              </a:spcBef>
              <a:buClr>
                <a:srgbClr val="00306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eventh Outline Level</a:t>
            </a:r>
            <a:endParaRPr b="0" lang="en-US" sz="2000" spc="-1" strike="noStrike">
              <a:solidFill>
                <a:srgbClr val="003069"/>
              </a:solidFill>
              <a:latin typeface="ITC Officina Sans Boo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1760" y="6229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BCB3-D2EC-440C-A99E-0C3F6DF0060D}" type="slidenum"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069"/>
                </a:solidFill>
                <a:latin typeface="ITC Officina Sans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38280" y="6616800"/>
            <a:ext cx="18050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dat AG, Berlin 2001    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85720" y="6616800"/>
            <a:ext cx="1280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Slide Nr.  </a:t>
            </a:r>
            <a:fld id="{3A2BE212-7E74-4EF9-B50A-AF5237EBC1D5}" type="slidenum"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&lt;number&gt;</a:t>
            </a:fld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0080" y="6616800"/>
            <a:ext cx="9028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3069"/>
                </a:solidFill>
                <a:latin typeface="ITC Officina Sans Book"/>
              </a:rPr>
              <a:t>Confidential</a:t>
            </a:r>
            <a:endParaRPr b="0" lang="en-US" sz="1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960" y="6553080"/>
            <a:ext cx="284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900" spc="-1" strike="noStrike">
                <a:solidFill>
                  <a:srgbClr val="003069"/>
                </a:solidFill>
                <a:latin typeface="Symbol"/>
                <a:ea typeface="Symbol"/>
              </a:rPr>
              <a:t></a:t>
            </a:r>
            <a:endParaRPr b="0" lang="en-US" sz="900" spc="-1" strike="noStrike">
              <a:solidFill>
                <a:srgbClr val="003069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989920" y="71280"/>
            <a:ext cx="80640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7320" y="241920"/>
            <a:ext cx="83818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89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28680" y="2016000"/>
            <a:ext cx="6129360" cy="25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at 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G23) Coder Decoder </a:t>
            </a: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06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CD</a:t>
            </a:r>
            <a:r>
              <a:rPr b="1" lang="en-US" sz="2400" spc="-1" strike="noStrike">
                <a:solidFill>
                  <a:srgbClr val="0063c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Test System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7680" y="15588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TAP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20920" y="2066760"/>
            <a:ext cx="639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est Application Proces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Uses the CCD and CCDEDIT functionality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3454560"/>
            <a:ext cx="914400" cy="57132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TAP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27880" y="3429000"/>
            <a:ext cx="914400" cy="62244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Test Case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38760" y="4533840"/>
            <a:ext cx="914400" cy="4698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CCDEdit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26160" y="5410080"/>
            <a:ext cx="914400" cy="6732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5410080"/>
            <a:ext cx="1168560" cy="68580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CCD data base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60720" y="3441600"/>
            <a:ext cx="914400" cy="571680"/>
          </a:xfrm>
          <a:prstGeom prst="rect">
            <a:avLst/>
          </a:prstGeom>
          <a:solidFill>
            <a:srgbClr val="b4d9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069"/>
                </a:solidFill>
                <a:latin typeface="ITC Officina Sans Book"/>
              </a:rPr>
              <a:t>PCO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3708360"/>
            <a:ext cx="8002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27600" y="3720960"/>
            <a:ext cx="7876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45200" y="4025880"/>
            <a:ext cx="0" cy="50796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5016600"/>
            <a:ext cx="0" cy="3934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40560" y="5778360"/>
            <a:ext cx="825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Test System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6440" y="158436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EDIT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23960" y="1558800"/>
            <a:ext cx="6399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C function library providing Iterator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functionality for the CCD data base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Iterate thru the IEs of an Air Interface Messag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Iterate thru the components of a Primitiv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Especially used for test case definition and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executio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74920" y="4165560"/>
            <a:ext cx="5969160" cy="233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RR_ESTABLISH_REQ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estcs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ESTCS_MOB_ORIG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sdu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{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component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M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direction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UPLINK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pd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U_IMSI_DETACH_IND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ti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TI_0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class_1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CLASS_1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ident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MOB_IDENT_IMSI</a:t>
            </a:r>
            <a:br>
              <a:rPr sz="1200"/>
            </a:b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306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Usage Relation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88" name=""/>
          <p:cNvSpPr/>
          <p:nvPr/>
        </p:nvSpPr>
        <p:spPr>
          <a:xfrm>
            <a:off x="4002120" y="3143160"/>
            <a:ext cx="1128600" cy="69228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27120" y="429912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T30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03800" y="4383000"/>
            <a:ext cx="804960" cy="69228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M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87880" y="479592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SS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9120" y="223848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R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21280" y="1366920"/>
            <a:ext cx="80460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22440" y="2222640"/>
            <a:ext cx="804960" cy="69192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M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49800" y="2563920"/>
            <a:ext cx="465120" cy="5508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67440" y="3865680"/>
            <a:ext cx="679320" cy="3888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317920" y="2782800"/>
            <a:ext cx="679320" cy="38916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54360" y="3935520"/>
            <a:ext cx="12960" cy="6444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3280" y="3854520"/>
            <a:ext cx="679320" cy="3888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3440" y="2259000"/>
            <a:ext cx="12960" cy="64440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Coder Decoder Component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02" name=""/>
          <p:cNvSpPr/>
          <p:nvPr/>
        </p:nvSpPr>
        <p:spPr>
          <a:xfrm>
            <a:off x="939960" y="2887560"/>
            <a:ext cx="2388960" cy="47160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4160" y="3079800"/>
            <a:ext cx="0" cy="2746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87520" y="3228840"/>
            <a:ext cx="0" cy="1177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67040" y="3114720"/>
            <a:ext cx="0" cy="2350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13000" y="3187800"/>
            <a:ext cx="0" cy="168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87760" y="3075120"/>
            <a:ext cx="0" cy="2746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24360" y="3075120"/>
            <a:ext cx="0" cy="27468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06440" y="3232080"/>
            <a:ext cx="0" cy="1285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47800" y="3206880"/>
            <a:ext cx="0" cy="141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3440" y="3191040"/>
            <a:ext cx="0" cy="16812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99160" y="3554280"/>
            <a:ext cx="183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Message PDU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37080" y="2611440"/>
            <a:ext cx="1557360" cy="145260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21480" y="2009880"/>
            <a:ext cx="1524240" cy="307008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63520" y="4259160"/>
            <a:ext cx="2911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ondat Coder Decoder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4960" y="5319720"/>
            <a:ext cx="152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069"/>
                </a:solidFill>
                <a:latin typeface="ITC Officina Sans Book"/>
              </a:rPr>
              <a:t>C Structure</a:t>
            </a:r>
            <a:endParaRPr b="0" lang="en-US" sz="20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29400" y="232740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26160" y="2612880"/>
            <a:ext cx="1068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26160" y="3054240"/>
            <a:ext cx="7718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29400" y="337968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29400" y="3645000"/>
            <a:ext cx="90972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32640" y="3946680"/>
            <a:ext cx="10400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24656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35880" y="4564080"/>
            <a:ext cx="77148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26160" y="4832280"/>
            <a:ext cx="1227240" cy="0"/>
          </a:xfrm>
          <a:prstGeom prst="line">
            <a:avLst/>
          </a:prstGeom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10000" y="3143160"/>
            <a:ext cx="841320" cy="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53280" y="3179880"/>
            <a:ext cx="841320" cy="0"/>
          </a:xfrm>
          <a:prstGeom prst="line">
            <a:avLst/>
          </a:prstGeom>
          <a:ln w="25560">
            <a:solidFill>
              <a:srgbClr val="003069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Coder Decoder Component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29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5120" y="158436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23960" y="1558800"/>
            <a:ext cx="639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C funtions provided to convert Air Interface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	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Messages into C structures and vice versa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Avoid bit operations in client cod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arget independen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63840" y="3301920"/>
            <a:ext cx="5994360" cy="316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GLOBAL void for_setup (T_CC_DATA * cc_data, T_U_SETUP * setup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PALLOC_MSG (data, MMCC_DATA_REQ, U_SETUP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TRACE_FUNCTION ("for_setup()"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cd_codeMsg (CCDENT_CC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UPLINK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(T_MSGBUF *) &amp;data-&gt;sdu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(UBYTE    *) setup,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NOT_PRESENT_8BIT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for_pd (data, cc_data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GSM/GPRS/UMTS Coder Decoder Component (I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4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800" y="12412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 error handl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3840" y="1905120"/>
            <a:ext cx="599436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#include ccdapi.h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USHORT parlist[6]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UBYTE  first_err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memset (parlist,0, sizeof (parlist)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first_err = ccd_getFirstError (CCDENT_CC, parlist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 Error Handling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switch (first_err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ase ERR_COMPREH_REQUIRED: /* comprehension required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for_set_mandatory_error (cc_data, (UBYTE)parlist[0])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ase ERR_MAND_ELEM_MISS:   /* Mandatory elements missing 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/*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 Error handling is carried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 out by checking the content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                 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3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97240" y="2168640"/>
            <a:ext cx="682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23800" y="752400"/>
          <a:ext cx="10029960" cy="605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752400"/>
                    <a:ext cx="10029960" cy="605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97240" y="2168640"/>
            <a:ext cx="682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17640" y="996840"/>
          <a:ext cx="962640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996840"/>
                    <a:ext cx="962640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4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8160" y="1241280"/>
            <a:ext cx="77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Message Describing in Intermediate Format MDF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25760" y="1905120"/>
            <a:ext cx="683244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70040" y="1933560"/>
            <a:ext cx="679752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VAR   cmd_prms           "Parameters"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1952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COMP  pas_cmd            "Proactive SIM Command"   0xD0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TLV             cmd_details                 ;  Command details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TLV             dev_ids                        ;  Device identities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V                  cmd_prms                   ;  Command parameters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MSG   stk_cmd            downlink       0b01000000   ;  SAT Command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3_V               msg_type                    ;  Message Type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GSM5_TLV          pas_cmd                     ;  Proactive SIM Command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3069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IV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6800" y="1241280"/>
            <a:ext cx="72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-Structure types to contain decoded stk_cmd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25760" y="1905120"/>
            <a:ext cx="683244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70040" y="1933560"/>
            <a:ext cx="6797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ypedef struc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msg_type;       /*&lt;  0:  1&gt; Message type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v_pas_cmd;    /*&lt;  1:  1&gt; valid-flag  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_pas_cmd     pas_cmd;   /*&lt;  2:257&gt; Proactive SIM Command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} T_STK_CMD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069"/>
                </a:solidFill>
                <a:latin typeface="Times New Roman"/>
              </a:rPr>
              <a:t>And for Target: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ypedef struct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msg_type;  /*&lt;  0:  1&gt; Message type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_align0;     /*&lt;  1:  1&gt; alignment  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_align1;     /*&lt;  2:  1&gt; alignment  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           v_pas_cmd; /*&lt;  3:  1&gt; valid-flag      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_pas_cmd       pas_cmd;  /*&lt;  4:272&gt; Proactive SIM Command */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} T_STK_CMD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Structure of Protocol Stack Entity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49320" y="1706400"/>
          <a:ext cx="620568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9320" y="1706400"/>
                    <a:ext cx="62056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V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58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7960" y="1241280"/>
            <a:ext cx="70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Test function to decode an stk_cmd message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25760" y="1905120"/>
            <a:ext cx="683244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har msgstr[] = “00 D0 3d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81 03 01 10 01 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82 02 81 83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85 1f 43 6f 6e 66 69 72 6d 65 7a 20 6c 27 61 70 70 65 6c 0b 91 00 00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00 00 00 21 69 16 69 00 01 01 86 0b 90 00 00 00 00 00 21 69 16 69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71 88 04 80 50 00 00“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T_MSGBUF   msgbuf; UBYTE      target[4096]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while (strlen (msgstr)) 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sscanf (msgstr, "%x", &amp;byte);   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buf.buf[i++] = (UBYTE) byte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str +=3; }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buf.l_buf = i*8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sgbuf.o_buf = 0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ccd_decodeMsg(..., &amp;msg_buf, target, 0xff);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coding Example (V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2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3280" y="1241280"/>
            <a:ext cx="76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Debugger Output for C Structure after Decoding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1160" y="1704960"/>
            <a:ext cx="7318440" cy="483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OUTPUT=(T_STK_CMD*) target;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___msg_type                0x0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___v_pas_cmd         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___pas_cmd                   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v_cmd_datails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cmd_detail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cmd_nr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cmd_typ     0x1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cmd_qlf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v_dev_ids   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dev_id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src_dev     0x8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des_dev     0x83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v_cmd_prms        0x01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___cmd_prms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l_cmd_prms  0x01a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o_cmd_prms  0x0000</a:t>
            </a:r>
            <a:endParaRPr b="0" lang="en-US" sz="16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069"/>
                </a:solidFill>
                <a:latin typeface="Courier New"/>
              </a:rPr>
              <a:t>|     |     |___b_cmd_prms  0x0012c686“Confirmez l‘appel“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ondat AG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velopment and Test Process - Files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66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8120" y="1241280"/>
            <a:ext cx="49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Set environment: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\gpf\initvars.bat</a:t>
            </a: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0720" y="180036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Generate CCD data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54440" y="2270160"/>
            <a:ext cx="6759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For PC call \g23m\condat\int\bin\makcdg.bat and build the PS using MSDev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For target call „perl \g23m\g23.pl“ which uses \gpf\ccd\ccddata.mk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Both procedures use \gpf\bin\xgen100.exe and \gpf\bin\ccdgen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utputs: ...\cdginc\, ...\cdginc_fd_gp\, ccddata.lib and ccddata_dll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Development and Test Process - Files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1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60400" y="1343160"/>
            <a:ext cx="52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Build Test Application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63200" y="2003400"/>
            <a:ext cx="54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go to \gpf\tap\ and call gnumak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r call gnumake TAP_VERSION=OL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utput will be e.g. tap2_gprs.ex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under \gpf\bin\ or \gpf\tap\obj\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85960" y="3654360"/>
            <a:ext cx="43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Build Test-DLL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67040" y="4327560"/>
            <a:ext cx="630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all \gpf\bin\mktc.bat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it reads \g23m\condat\ms\doc\test\x.do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output is \g23m\condat\ms\tds\x\xy.td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and \g23m\condat\ms\test\test_x\*.dll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ccd-lib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77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2080" y="1200240"/>
            <a:ext cx="630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Different variations :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e.g.</a:t>
            </a: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 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cd_npc_tr_db.lib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54440" y="1711440"/>
            <a:ext cx="630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_tr, _db, _npc, _na7, _ar, _po, _vx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Trace, Debug, Nucleus emulation on Win32, Nucleus on ARM7, GTI on ARM, pSOS, vxwork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17640" y="3041640"/>
            <a:ext cx="57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Library is an object of ClearCase control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27520" y="3613320"/>
            <a:ext cx="630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See also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gpf_memo_cclabels.doc</a:t>
            </a: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CD objects independent from ccd data tables in CCD_2.2.0 and onwards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Read about versions: readme_ccd.tx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Documentation: ccd_api.doc, faq_ccd.html and ccd_userguide.do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56080" y="1457280"/>
            <a:ext cx="402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29920" y="2602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ccddata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84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85960" y="138096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Different cdginc file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32000" y="2104920"/>
            <a:ext cx="682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&gt; High potential for functioning problem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Alignment bytes depend on processor type (check ccdgen call for -a0, -a1 or -a2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No CCD_SYMBOLS for target (no name column in mcomp.cdg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PS, TAP, PCO must use the same ccd data tables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Instructions in ctrl column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238400" y="914400"/>
          <a:ext cx="7534080" cy="60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914400"/>
                    <a:ext cx="7534080" cy="60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Miscellaneous (memory issues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291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35160" y="942840"/>
            <a:ext cx="7223040" cy="538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30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Dose CCD do memset() to 0?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Yes, using</a:t>
            </a: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l_buf. So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be careful with filling l_buf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buClr>
                <a:srgbClr val="00306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What are SHARED_CCD_BUF, CCD_START,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CCD_END and _decodedMsg? </a:t>
            </a: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They help to use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Times New Roman"/>
              </a:rPr>
              <a:t>CCD internal allocated but shared memory. </a:t>
            </a:r>
            <a:r>
              <a:rPr b="1" lang="de-DE" sz="2400" spc="-1" strike="noStrike">
                <a:solidFill>
                  <a:srgbClr val="003069"/>
                </a:solidFill>
                <a:latin typeface="Times New Roman"/>
              </a:rPr>
              <a:t>Usage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CD_START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BYTE ccdRet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CAST( com, COMPONENT )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memset( com, 0, sizeof( T_COMPONENT ))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cdRet = ccd_decodeMsg (CCDENT_FAC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UPLINK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(T_MSGBUF *) &amp;mnss_facility_ind -&gt; fac_inf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(UBYTE    *) _decodedMsg,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                            </a:t>
            </a: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OMPONENT)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069"/>
                </a:solidFill>
                <a:latin typeface="Times New Roman"/>
              </a:rPr>
              <a:t>CCD_END;</a:t>
            </a:r>
            <a:endParaRPr b="0" lang="en-US" sz="18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Mobile-Station Protocol Architecture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33560" y="1487520"/>
          <a:ext cx="6039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1487520"/>
                    <a:ext cx="603900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Protocol Stack Development Method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88840" y="1081080"/>
          <a:ext cx="789624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081080"/>
                    <a:ext cx="789624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7680" y="272880"/>
            <a:ext cx="8277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GSM/GPRS/UMTS Coder Decoder System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1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8680" y="2016000"/>
            <a:ext cx="18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Subsystems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2640" y="2625840"/>
            <a:ext cx="485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EDIT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 data base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069"/>
              </a:buClr>
              <a:buFont typeface="ITC Officina Sans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TAP (Test Application Process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793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- GSM/GPRS/UMTS Coder Decoder System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05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8160" y="154620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 data base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5400" y="2117880"/>
            <a:ext cx="639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Data tables describe the structure of Air Interface Messages and Primitves, e.g. IE types, bit field sizes, offset valu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est system : debug information and primitives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Statically linked as object or library file to the application. 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Dynamically linked on win32 systems (ccd.dll)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- Tables reside in ...\CDGINC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Data and Type Generation (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26960" y="2330280"/>
            <a:ext cx="1063440" cy="580680"/>
            <a:chOff x="426960" y="2330280"/>
            <a:chExt cx="1063440" cy="580680"/>
          </a:xfrm>
        </p:grpSpPr>
        <p:grpSp>
          <p:nvGrpSpPr>
            <p:cNvPr id="110" name=""/>
            <p:cNvGrpSpPr/>
            <p:nvPr/>
          </p:nvGrpSpPr>
          <p:grpSpPr>
            <a:xfrm>
              <a:off x="426960" y="2330280"/>
              <a:ext cx="1063440" cy="580680"/>
              <a:chOff x="426960" y="2330280"/>
              <a:chExt cx="1063440" cy="580680"/>
            </a:xfrm>
          </p:grpSpPr>
          <p:sp>
            <p:nvSpPr>
              <p:cNvPr id="111" name=""/>
              <p:cNvSpPr/>
              <p:nvPr/>
            </p:nvSpPr>
            <p:spPr>
              <a:xfrm>
                <a:off x="693720" y="2333520"/>
                <a:ext cx="0" cy="57636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92280" y="2330280"/>
                <a:ext cx="536400" cy="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28680" y="2332080"/>
                <a:ext cx="0" cy="266760"/>
              </a:xfrm>
              <a:prstGeom prst="line">
                <a:avLst/>
              </a:prstGeom>
              <a:ln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6960" y="2575440"/>
                <a:ext cx="542520" cy="335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30" y="9571"/>
                    </a:moveTo>
                    <a:arcTo wR="10800" hR="10800" stAng="-392076" swAng="57920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30" y="9571"/>
                    </a:moveTo>
                    <a:arcTo wR="10800" hR="10800" stAng="-392076" swAng="5792076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63720" y="2598840"/>
                <a:ext cx="52668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83"/>
                    </a:moveTo>
                    <a:arcTo wR="10800" hR="10800" stAng="-10762635" swAng="53419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83"/>
                    </a:moveTo>
                    <a:arcTo wR="10800" hR="10800" stAng="-10762635" swAng="5341925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30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069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43040" y="2401920"/>
              <a:ext cx="3222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800" y="2465280"/>
              <a:ext cx="2761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9800" y="2532240"/>
              <a:ext cx="3222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9800" y="2606760"/>
              <a:ext cx="2221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9800" y="2685960"/>
              <a:ext cx="18108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800" y="2762280"/>
              <a:ext cx="16524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46000" y="2149560"/>
            <a:ext cx="682200" cy="340560"/>
            <a:chOff x="846000" y="2149560"/>
            <a:chExt cx="682200" cy="340560"/>
          </a:xfrm>
        </p:grpSpPr>
        <p:sp>
          <p:nvSpPr>
            <p:cNvPr id="123" name=""/>
            <p:cNvSpPr/>
            <p:nvPr/>
          </p:nvSpPr>
          <p:spPr>
            <a:xfrm>
              <a:off x="847800" y="2152800"/>
              <a:ext cx="0" cy="16488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6000" y="2149560"/>
              <a:ext cx="53676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82760" y="2151000"/>
              <a:ext cx="0" cy="26676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33360" y="2417760"/>
              <a:ext cx="29484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" y="10331"/>
                  </a:moveTo>
                  <a:arcTo wR="10800" hR="10800" stAng="-10650627" swAng="52136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" y="10331"/>
                  </a:moveTo>
                  <a:arcTo wR="10800" hR="10800" stAng="-10650627" swAng="5213664"/>
                </a:path>
              </a:pathLst>
            </a:custGeom>
            <a:noFill/>
            <a:ln cap="rnd"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96760" y="2220840"/>
              <a:ext cx="32256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03240" y="2300400"/>
              <a:ext cx="27612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998640" y="1968480"/>
            <a:ext cx="682200" cy="341280"/>
            <a:chOff x="998640" y="1968480"/>
            <a:chExt cx="682200" cy="341280"/>
          </a:xfrm>
        </p:grpSpPr>
        <p:sp>
          <p:nvSpPr>
            <p:cNvPr id="130" name=""/>
            <p:cNvSpPr/>
            <p:nvPr/>
          </p:nvSpPr>
          <p:spPr>
            <a:xfrm>
              <a:off x="1000080" y="1971720"/>
              <a:ext cx="0" cy="16488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8640" y="1968480"/>
              <a:ext cx="5364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35040" y="1969920"/>
              <a:ext cx="0" cy="26676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86000" y="2236680"/>
              <a:ext cx="294840" cy="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" y="10331"/>
                  </a:moveTo>
                  <a:arcTo wR="10800" hR="10800" stAng="-10650627" swAng="52136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" y="10331"/>
                  </a:moveTo>
                  <a:arcTo wR="10800" hR="10800" stAng="-10650627" swAng="5213664"/>
                </a:path>
              </a:pathLst>
            </a:custGeom>
            <a:noFill/>
            <a:ln cap="rnd"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49400" y="2039760"/>
              <a:ext cx="32220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55520" y="2119320"/>
              <a:ext cx="276480" cy="0"/>
            </a:xfrm>
            <a:prstGeom prst="line">
              <a:avLst/>
            </a:prstGeom>
            <a:ln w="12600">
              <a:solidFill>
                <a:srgbClr val="0030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069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26240" y="3060720"/>
            <a:ext cx="23842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Formal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Description of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Messages and Primitiv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(WORD File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32040" y="2276640"/>
            <a:ext cx="84132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27160"/>
            <a:ext cx="1360800" cy="48420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GE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3040" y="2749680"/>
            <a:ext cx="150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 Generator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2680" y="1028880"/>
            <a:ext cx="1665000" cy="9381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 Kernel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CCD Interface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General Coding Rul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49720" y="2158920"/>
            <a:ext cx="1677960" cy="9381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Coding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Tables for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essages 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49720" y="3322800"/>
            <a:ext cx="1677960" cy="9381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essage and 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Primitive Element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Description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49720" y="5003640"/>
            <a:ext cx="1535400" cy="1465560"/>
          </a:xfrm>
          <a:prstGeom prst="rect">
            <a:avLst/>
          </a:prstGeom>
          <a:solidFill>
            <a:srgbClr val="dbed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Include Files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p_xxx.h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p_xxx.val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_xxx.h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m_xxx.val</a:t>
            </a:r>
            <a:br>
              <a:rPr sz="1400"/>
            </a:br>
            <a:r>
              <a:rPr b="0" lang="en-US" sz="1400" spc="-1" strike="noStrike">
                <a:solidFill>
                  <a:srgbClr val="003069"/>
                </a:solidFill>
                <a:latin typeface="ITC Officina Sans Book"/>
              </a:rPr>
              <a:t>(xxx=SAP/Entity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11840" y="5713560"/>
            <a:ext cx="58572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13480" y="5535720"/>
            <a:ext cx="1116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PS Entities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86240" y="2305080"/>
            <a:ext cx="60660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289240"/>
            <a:ext cx="0" cy="3425760"/>
          </a:xfrm>
          <a:prstGeom prst="line">
            <a:avLst/>
          </a:prstGeom>
          <a:ln w="2556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87760" y="5727600"/>
            <a:ext cx="52884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08640" y="3486240"/>
            <a:ext cx="528480" cy="0"/>
          </a:xfrm>
          <a:prstGeom prst="line">
            <a:avLst/>
          </a:prstGeom>
          <a:ln w="25560">
            <a:solidFill>
              <a:srgbClr val="00306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42080" y="1025640"/>
            <a:ext cx="2612880" cy="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35600" y="4260960"/>
            <a:ext cx="2797200" cy="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30920" y="3100320"/>
            <a:ext cx="1390680" cy="0"/>
          </a:xfrm>
          <a:prstGeom prst="line">
            <a:avLst/>
          </a:prstGeom>
          <a:ln w="12600">
            <a:solidFill>
              <a:srgbClr val="00306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5240" y="2475000"/>
            <a:ext cx="0" cy="6444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35880" y="1015920"/>
            <a:ext cx="0" cy="86832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10720" y="1911240"/>
            <a:ext cx="895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br>
              <a:rPr sz="1400"/>
            </a:b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(Target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9161640" y="1065240"/>
            <a:ext cx="0" cy="118440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61640" y="2963880"/>
            <a:ext cx="0" cy="1274760"/>
          </a:xfrm>
          <a:prstGeom prst="line">
            <a:avLst/>
          </a:prstGeom>
          <a:ln w="12600">
            <a:solidFill>
              <a:srgbClr val="00306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815680" y="2389320"/>
            <a:ext cx="681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CCD</a:t>
            </a:r>
            <a:br>
              <a:rPr sz="1400"/>
            </a:br>
            <a:r>
              <a:rPr b="1" lang="en-US" sz="1400" spc="-1" strike="noStrike">
                <a:solidFill>
                  <a:srgbClr val="003069"/>
                </a:solidFill>
                <a:latin typeface="ITC Officina Sans Book"/>
              </a:rPr>
              <a:t>(Test)</a:t>
            </a:r>
            <a:endParaRPr b="0" lang="en-US" sz="14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Data and Type Generation (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324160" y="914400"/>
          <a:ext cx="49910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914400"/>
                    <a:ext cx="49910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7320" y="2728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3ce"/>
                </a:solidFill>
                <a:latin typeface="ITC Officina Sans Book"/>
              </a:rPr>
              <a:t>CCD Data and Type Generation (III)</a:t>
            </a:r>
            <a:endParaRPr b="1" lang="en-US" sz="2800" spc="-1" strike="noStrike">
              <a:solidFill>
                <a:srgbClr val="003069"/>
              </a:solidFill>
              <a:latin typeface="ITC Officina Sans Book"/>
            </a:endParaRPr>
          </a:p>
        </p:txBody>
      </p:sp>
      <p:sp>
        <p:nvSpPr>
          <p:cNvPr id="163" name=""/>
          <p:cNvSpPr/>
          <p:nvPr/>
        </p:nvSpPr>
        <p:spPr>
          <a:xfrm>
            <a:off x="1076400" y="1400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1400" y="1584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069"/>
                </a:solidFill>
                <a:latin typeface="ITC Officina Sans Book"/>
              </a:rPr>
              <a:t>CCDGEN: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08080" y="1901880"/>
            <a:ext cx="652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Creation of C include files and SDL files from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Primitive Description Files (PDF) and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069"/>
                </a:solidFill>
                <a:latin typeface="ITC Officina Sans Book"/>
              </a:rPr>
              <a:t>Message Description Files (MDF).</a:t>
            </a:r>
            <a:endParaRPr b="0" lang="en-US" sz="2400" spc="-1" strike="noStrike">
              <a:solidFill>
                <a:srgbClr val="00306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9040" y="3492360"/>
            <a:ext cx="5727960" cy="246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0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DGINC)\mconst.cdg: $(MDFFILES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TESTDRIVE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d $(MSGDIR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-md $(CDGINC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CDGEN) -l -t -h -m64 -a2 -o$(CDGINC) $(**B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DGINC)\pconst.cdg: $(PDFFILES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TESTDRIVE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cd $(PRIMDIR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-md $(CDGINC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     </a:t>
            </a:r>
            <a:r>
              <a:rPr b="0" lang="de-DE" sz="1200" spc="-1" strike="noStrike">
                <a:solidFill>
                  <a:srgbClr val="003069"/>
                </a:solidFill>
                <a:latin typeface="Courier New"/>
              </a:rPr>
              <a:t>$(CCDGEN) -l -t -h -m64 -p -a0 -o$(CDGINC) $(**B)</a:t>
            </a:r>
            <a:endParaRPr b="0" lang="en-US" sz="1200" spc="-1" strike="noStrike">
              <a:solidFill>
                <a:srgbClr val="00306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olker Klann</dc:creator>
  <dc:description/>
  <dc:language>en-US</dc:language>
  <cp:lastModifiedBy>Simin Javadieh</cp:lastModifiedBy>
  <cp:lastPrinted>2001-02-18T20:19:43Z</cp:lastPrinted>
  <dcterms:modified xsi:type="dcterms:W3CDTF">2002-04-11T16:52:27Z</dcterms:modified>
  <cp:revision>329</cp:revision>
  <dc:subject/>
  <dc:title>Kein Folientitel</dc:title>
</cp:coreProperties>
</file>